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3AF-107F-4DC8-9E75-6CD6912E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10A-9BEF-48FA-8BED-04CA8ED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80C-CDB2-4077-BCA0-08CB7097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CD9-941D-4161-9B0B-72DAEBD1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EE55-2A74-48C8-A76A-54B6D05C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6261-FFFB-47D9-BACC-6AAB5FA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C5A-423B-4EB3-A93F-6D8AFA22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2A1E-D3B8-4C3E-A175-586402E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7A9E-B30D-440A-8D51-3A66F48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380520"/>
            <a:ext cx="70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988-689C-4660-B921-7E18CA75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E8D4-A7FF-4F03-980C-7585181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3D0-1DEF-4BE2-A8A7-CC6D5DE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9C3C-440A-4A84-9879-822E81F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6BA9-E596-4CC3-87DB-88D5701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5F2-FC83-4C40-A927-A97D9E5E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9B2B-A8A6-4790-82CA-21544010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154-DE8E-41BD-BE69-8D8715A0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F98-FD5E-43E2-AB73-BB61739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81C-F97A-48C3-BEC4-551B56D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87B-1FD1-472B-A9F2-5388BF7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380520"/>
            <a:ext cx="70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5C1-B1CB-4C2A-B191-E1A5F5C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D6C-516A-49AB-8D37-7B3CAE1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EDE-CB8C-4774-A60C-48025B1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6DA-9B2D-49BF-9131-A9E6BE0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9C0A-DBDE-4127-A4DC-F5F3DE400C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16080" y="-3240"/>
            <a:ext cx="22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ff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99ccff"/>
                </a:solidFill>
                <a:latin typeface="隶书"/>
                <a:ea typeface="隶书"/>
              </a:rPr>
              <a:t>1</a:t>
            </a:r>
            <a:r>
              <a:rPr b="1" lang="zh-CN" sz="2000" spc="-1" strike="noStrike">
                <a:solidFill>
                  <a:srgbClr val="99ccff"/>
                </a:solidFill>
                <a:latin typeface="隶书"/>
                <a:ea typeface="隶书"/>
              </a:rPr>
              <a:t>章  微机远动技术概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9933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E23-AB64-4CC3-A5F6-256F9F30199E}" type="slidenum">
              <a:rPr b="0" lang="zh-CN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章  微机远动技术概述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59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2" action="ppaction://hlinksldjump"/>
              </a:rPr>
              <a:t>1.1  远动技术的概念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3" action="ppaction://hlinksldjump"/>
              </a:rPr>
              <a:t>1.2  远动技术的发展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4" action="ppaction://hlinksldjump"/>
              </a:rPr>
              <a:t>1.3  计算机远动技术的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5" action="ppaction://hlinksldjump"/>
              </a:rPr>
              <a:t>1.4  计算机远动系统的模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6" action="ppaction://hlinksldjump"/>
              </a:rPr>
              <a:t>1.5  对计算机远动系统的要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1.3.1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计算机远动技术在电力系统中的应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电力系统的管理调度体系分为五级：国家级总调度、大电网级网调度、省级电网省调、地区电网地调和县级电网调度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电力系统运行的三大标准是安全运行、优质运行和经济运行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1.3.2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计算机远动技术在城镇供水系统中的应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国现有的水资源低于各国的平均水平。我国有数十个大、中、小城市严重缺水，已经影响到城镇居民的日常生活和工农业生产。除了进一步开发新的水源之外，如何节约、有效、合理地利用现有水源，是当前摆在我国供水行业的首要任务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现代化的监控与调度手段，是实现安全、优质、合理、经济供水的重要条件之一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0284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1.3.3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计算机远动技术在通信网中应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通信网中利用自动化监测技术可完成如下任务：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实时掌握通信网中各种设备的运行情况及系统性能变化趋势，做到初期故障早预报，在小故障变为大故障之前，及时采取措施进行维护处理，防止业务中断，保证通信网的运行畅通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迅速准确地对通信网出现的故障进行定位和自动控制。这对远程站尤为重要，可以避免派人员到距离很远的故障现场检测机器，使操作维护时间和维护成本减至最少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实时采集通信网运行中的各种状态信息和报警信息，进行分类汇总，统计分析处理，报送上级主管部门，实现通信的自动化、集中化的维护管理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5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1.3.4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计算机远动技术在铁道电气化中的应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铁道电气化的迅速发展，供电系统的运行、调度管理工作日益复杂。电气化铁道供电系统设有电力调度所，统一指挥供电系统在正常及事故情况下的运行，并集中管理沿铁道分布的许多牵引变电所、分区亭、开闭所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中的电气设备。为了保证供电系统运行的可靠性和经济性，调度所必须及时掌握系统的实际运行情况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4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计算机远动系统的模式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598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2" action="ppaction://hlinksldjump"/>
              </a:rPr>
              <a:t>1.4.1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3" action="ppaction://hlinksldjump"/>
              </a:rPr>
              <a:t>计算机远动系统的基本组成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5" action="ppaction://hlinksldjump"/>
              </a:rPr>
              <a:t>1.4.2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6" action="ppaction://hlinksldjump"/>
              </a:rPr>
              <a:t>计算机远动系统的运行方式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1.4.1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计算机远动系统的基本组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772400" cy="21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743200"/>
                    <a:ext cx="777240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559680" y="52578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远动系统结构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9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远动系统的组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现场信息转换与控制机构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远动终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R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通信信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度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1.4.2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计算机远动系统的运行方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机系统有两种运行方式：手动运行和自动运行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动运行方式主要包括如下操作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采集数据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遥控操作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出曲线和报表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模拟盘操作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系统维护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5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对计算机远动系统的要求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93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靠性高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实时性强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准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计合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可维护性好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信道混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备多样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兼容性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抗干扰能力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5862600" y="634680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380520"/>
            <a:ext cx="60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本章学习目标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动的定义及技术特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控、遥信、遥测、遥调的定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动的组成及分类方法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动的运行方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机远动的性能指标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机远动技术的应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65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1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远动技术的概念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2133720"/>
            <a:ext cx="567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2" action="ppaction://hlinksldjump"/>
              </a:rPr>
              <a:t>1.1.1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3" action="ppaction://hlinksldjump"/>
              </a:rPr>
              <a:t>“四遥”功能的定义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5" action="ppaction://hlinksldjump"/>
              </a:rPr>
              <a:t>1.1.2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6" action="ppaction://hlinksldjump"/>
              </a:rPr>
              <a:t>远动系统的分类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1.1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四遥”功能的定义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4800" y="20574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遥控（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楷体_GB2312"/>
              </a:rPr>
              <a:t>Y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遥控就是对被控对象进行远距离控制。被控对象可以是固定的，如工厂的机器，输油、输气、供水管道上的泵与阀，铁路上的变电所、分区亭、开闭所，电力系统的发电厂、变电站的开关等；也可以是活动的，如无人驾驶飞机、卫星等。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遥测（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  <a:ea typeface="楷体_GB2312"/>
              </a:rPr>
              <a:t>Y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遥测就是对被测对象的某些参数进行远距离测量。如可以遥测铁路牵引供电系统中变电所、分区亭中的有功和无功功率、电度、电压、电流等电气参数及接触网故障点等非电气参数。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遥信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Y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被控站的设备状态信号远距离传送给调度端称为遥信，如开关位置信号、报警信号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遥调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Y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度端直接对被控站某些设备的工作状态和参数的调整称为遥调。如调节变电所的某些量值（如电压、功率因素等）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1.2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远动系统的分类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96640" y="2017440"/>
            <a:ext cx="6132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按远动功能的实现方式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布线逻辑式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计算机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远动装置采用的元件是否有接点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接点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无接点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远动技术的信息传输方式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循环式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问答式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905120" y="914400"/>
            <a:ext cx="67053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远动装置的工作方式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方式远动系统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方式远动系统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: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方式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根据遥控遥测系统传输指令和信息是利用无线信道还是有线信道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无线信道远动系统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有线信道远动系统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按被控对象是分散还是集中分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散型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集中型远动系统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431120" y="6308640"/>
            <a:ext cx="79020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2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远动技术的发展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早在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，人们就可以用遥控的方法点燃地雷，以及对炮弹的飞行参数进行记录，这就是早期远动技术出现的例子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，特别是第二次世界大战之后，由于军事上的需要，采用无线电遥测技术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，美国与前苏联两国大力开展导弹和卫星的研制工作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，人类已经进入宇宙航行的时代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国远动技术从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起步，经过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艰苦努力，从无到有，从简单到尖端，已在电力系统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工厂及联合企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气象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国防、航天、机器人、深海作业、核试验、核能利用、地震预报、生物医学、铁道、隧道、输油管道、引水排灌、环境保护等领域得到广泛应用。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1.3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计算机远动技术的应用</a:t>
            </a:r>
            <a:r>
              <a:rPr b="1" lang="zh-CN" sz="36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2" action="ppaction://hlinksldjump"/>
              </a:rPr>
              <a:t>1.3.1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3" action="ppaction://hlinksldjump"/>
              </a:rPr>
              <a:t>计算机远动技术在电力系统中的应用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5" action="ppaction://hlinksldjump"/>
              </a:rPr>
              <a:t>1.3.2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6" action="ppaction://hlinksldjump"/>
              </a:rPr>
              <a:t>计算机远动技术在城镇供水系统中的应用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Tahoma"/>
                <a:hlinkClick r:id="rId8" action="ppaction://hlinksldjump"/>
              </a:rPr>
              <a:t>1.3.3  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9" action="ppaction://hlinksldjump"/>
              </a:rPr>
              <a:t>计算机远动技术在通信网中应用</a:t>
            </a:r>
            <a:r>
              <a:rPr b="1" lang="zh-CN" sz="2800" spc="-1" strike="noStrike" u="sng">
                <a:solidFill>
                  <a:srgbClr val="339933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3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远动技术在铁道电气化中的应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>
            <a:hlinkClick r:id="rId11" action="ppaction://hlinksldjump"/>
          </p:cNvPr>
          <p:cNvSpPr/>
          <p:nvPr/>
        </p:nvSpPr>
        <p:spPr>
          <a:xfrm>
            <a:off x="7532640" y="6308640"/>
            <a:ext cx="1095120" cy="398880"/>
          </a:xfrm>
          <a:prstGeom prst="rect">
            <a:avLst/>
          </a:prstGeom>
          <a:noFill/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ba9c2"/>
                </a:solidFill>
                <a:latin typeface="Tahoma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07:17:26Z</dcterms:created>
  <dc:creator>新人电脑</dc:creator>
  <dc:description/>
  <dc:language>en-US</dc:language>
  <cp:lastModifiedBy>li</cp:lastModifiedBy>
  <dcterms:modified xsi:type="dcterms:W3CDTF">2002-02-01T04:01:54Z</dcterms:modified>
  <cp:revision>20</cp:revision>
  <dc:subject/>
  <dc:title>第1章  微机远动技术概述 </dc:title>
</cp:coreProperties>
</file>